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B0F-72CC-4B8B-9AD8-AD8D3F1E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0DD-AA9D-43B9-9A7C-9A660D7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07A-05CF-40C4-996F-3DC77612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799-41F4-4DEA-B392-AC708D55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030-E491-4CB0-9A9D-CF090A6F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20F-751F-4B50-95D8-244C65A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385-3D77-46DB-9468-95F44D49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3DD-3307-484A-B358-621B304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A36-6F7D-4100-950E-83F3356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AFA-7578-445D-9016-7375E3D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867-58C7-4031-8ABC-FFE45A6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070-EEDE-4FEA-9F7E-4333629E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4F6-7366-42D8-AFF8-BFD13E44EC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odpora MPSV v oblasti plánování sociálních služeb a sociální práce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28.11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Národní strategie rozvoje soc. služ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trategický dokument pro oblast soc. služeb na období 2014 –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Cíl: nastavit další zaměření sociálních služeb, vymezit žádoucí postup ke zlepšení fungování sociálních služeb na systémové úrovni a vytvořit vhodnější prostředí ke „kultivaci“ systému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iority rozvoje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Zákon č. 2/1969 Sb., o zřízení ministerstev a jiných ústředních orgánů ČR - uzákonění povinnosti zpracovávat koncepce rozvoje svěřených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acovní skupina (PS), analýza koncepčních/strategických dokumentů se vztahem k soc. službám, konzultační a připomínk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Obsah: Úvod - Koncepční východiska – Analytická část – Strategické oblasti rozvoje + Akční plán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rojekt „Podpora procesů v soc. službách“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Hlavní cíl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podpořit dostupnost sociálních služeb vůči jejich uživatelům prostřednictvím efektivního a transparentního prostředí řízení, distribuce a monitoringu finančních prostředků     z veřejných rozpočtů do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Aktivita č. 5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lánování dostupnosti soc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iálních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 služeb a efektivní distribuce 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finančních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rostředků na jejich zaji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Národní strategie rozvoje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Kritéria kvality plánování sociálních služeb na krajské úrovni a metodika „síťování“ soc.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Další témata ve vztahu k plánování      rozvoje soc. služ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dentifikace a vyhodnocování problematick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finice sociálních potřeb vyplývající z identifikovan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ystém finanční podpory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Druhy/kar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Registrace poskytovatelů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lánování sociálních služeb v rámci OP LZZ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Globální gra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22 + 45 Podpora vzdělávání a procesů v soc.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65, 78, 97 Podpora procesů plánování soc. služe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773360"/>
          <a:ext cx="5256000" cy="4179600"/>
        </p:xfrm>
        <a:graphic>
          <a:graphicData uri="http://schemas.openxmlformats.org/drawingml/2006/table">
            <a:tbl>
              <a:tblPr/>
              <a:tblGrid>
                <a:gridCol w="2031840"/>
                <a:gridCol w="1711440"/>
                <a:gridCol w="15127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čet projekt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dpora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če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5 828 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morav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9 112 7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álovéhrade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 796 1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Moravskoslez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1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ardub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195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Olomou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1 247 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lzeň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830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Středoče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8 597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Úst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3 825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Vysoč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5 686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Zlín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9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Liber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 57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Operační program Zaměstnano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5 prioritních os – </a:t>
            </a: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rioritní osa 2 „Sociální začleňování a boj s chudobo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Investiční priorita 2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 – Zlepšování přístupu k dostupným, udržitelným a vysoce kvalitním službám, včetně zdravotnictví a sociálních služeb obecného záj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opis typů a příkladů financovaných aktiv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Podpora procesu střednědobého plánování služeb (zavádění, realizace a vyhodnocování procesu) s důrazem na využití principu partnerství včetně tvorby SPRSS (přednostně pro správní obvod  obcí s rozšířenou působnost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ve službách a ve veř. správě např. v oblastech rozvoje schopnosti posoudit soc. situaci klienta, case managementu, multidisciplinárního plánování podpory a pomoci,  síťování v rámci konkrétního území, rozpoznání rizik 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a dalších pracovníků soc. služeb ve způsobech zmocňování (empowerment) uživatelů ústavních služeb, formách a nástrojích zapojování uživatelů do rozhod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Vasková Vladana PhDr. (MPSV)</cp:lastModifiedBy>
  <dcterms:modified xsi:type="dcterms:W3CDTF">2013-11-20T15:08:31Z</dcterms:modified>
  <cp:revision>44</cp:revision>
  <dc:subject/>
  <dc:title>Snímek 1</dc:title>
</cp:coreProperties>
</file>